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40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748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32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40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748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716256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640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1748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532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640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1748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716256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477280" y="6400800"/>
            <a:ext cx="47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E4CD-8477-4178-9D04-7E5944E582C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AFRL%20Shield%20transparent%20background%201INcopy" descr=""/>
          <p:cNvPicPr/>
          <p:nvPr/>
        </p:nvPicPr>
        <p:blipFill>
          <a:blip r:embed="rId2"/>
          <a:stretch/>
        </p:blipFill>
        <p:spPr>
          <a:xfrm>
            <a:off x="8153280" y="19080"/>
            <a:ext cx="905040" cy="898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914400" y="1219320"/>
            <a:ext cx="74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219320"/>
            <a:ext cx="76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52560"/>
            <a:ext cx="9144000" cy="92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2840" indent="-2397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6720" indent="-2397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6720" indent="-2397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6720" indent="-2397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chrmblue_std" descr=""/>
          <p:cNvPicPr/>
          <p:nvPr/>
        </p:nvPicPr>
        <p:blipFill>
          <a:blip r:embed="rId4"/>
          <a:srcRect l="16375" t="2376" r="12501" b="21272"/>
          <a:stretch/>
        </p:blipFill>
        <p:spPr>
          <a:xfrm>
            <a:off x="14400" y="-23760"/>
            <a:ext cx="118908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600" spc="-1" strike="noStrike">
                <a:solidFill>
                  <a:srgbClr val="0d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77280" y="6400800"/>
            <a:ext cx="47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78C6-62A9-4134-80EB-829FE5D36C1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219320"/>
            <a:ext cx="74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72880" y="3255840"/>
            <a:ext cx="3474720" cy="3170160"/>
            <a:chOff x="272880" y="3255840"/>
            <a:chExt cx="3474720" cy="3170160"/>
          </a:xfrm>
        </p:grpSpPr>
        <p:pic>
          <p:nvPicPr>
            <p:cNvPr id="48" name="chrmblue_std" descr=""/>
            <p:cNvPicPr/>
            <p:nvPr/>
          </p:nvPicPr>
          <p:blipFill>
            <a:blip r:embed="rId2"/>
            <a:srcRect l="16354" t="0" r="12484" b="21310"/>
            <a:stretch/>
          </p:blipFill>
          <p:spPr>
            <a:xfrm>
              <a:off x="272880" y="3504960"/>
              <a:ext cx="3474720" cy="29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AFRL%20Shield%20transparent%20background%201INcopy" descr=""/>
            <p:cNvPicPr/>
            <p:nvPr/>
          </p:nvPicPr>
          <p:blipFill>
            <a:blip r:embed="rId3"/>
            <a:stretch/>
          </p:blipFill>
          <p:spPr>
            <a:xfrm>
              <a:off x="1234800" y="3255840"/>
              <a:ext cx="1485720" cy="14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7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algn="ctr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3080" algn="ctr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6960" algn="ctr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696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696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2840" y="91260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600" spc="-1" strike="noStrike">
                <a:solidFill>
                  <a:srgbClr val="0d2b88"/>
                </a:solidFill>
                <a:latin typeface="Arial"/>
              </a:rPr>
              <a:t>Computer modeling of laser propagation and beam control through atmospheric turbulence:</a:t>
            </a:r>
            <a:br>
              <a:rPr sz="3600"/>
            </a:br>
            <a:r>
              <a:rPr b="1" lang="en-US" sz="3600" spc="-1" strike="noStrike">
                <a:solidFill>
                  <a:srgbClr val="0d2b88"/>
                </a:solidFill>
                <a:latin typeface="Arial"/>
              </a:rPr>
              <a:t>A WaveTrain Tutorial</a:t>
            </a:r>
            <a:endParaRPr b="1" lang="en-US" sz="36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30440" y="3762360"/>
            <a:ext cx="541836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tain Matthew R. Whiteley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borne Laser Technologies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L/D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ed Energy Direct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Force Research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chedule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36400" y="1511280"/>
            <a:ext cx="8072280" cy="4853160"/>
            <a:chOff x="536400" y="1511280"/>
            <a:chExt cx="8072280" cy="4853160"/>
          </a:xfrm>
        </p:grpSpPr>
        <p:grpSp>
          <p:nvGrpSpPr>
            <p:cNvPr id="138" name=""/>
            <p:cNvGrpSpPr/>
            <p:nvPr/>
          </p:nvGrpSpPr>
          <p:grpSpPr>
            <a:xfrm>
              <a:off x="542520" y="1514880"/>
              <a:ext cx="8058600" cy="4845240"/>
              <a:chOff x="542520" y="1514880"/>
              <a:chExt cx="8058600" cy="48452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542520" y="1514880"/>
                <a:ext cx="2052720" cy="907920"/>
                <a:chOff x="542520" y="1514880"/>
                <a:chExt cx="2052720" cy="907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33600" y="1514880"/>
                  <a:ext cx="187020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stem Nam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2520" y="1514880"/>
                  <a:ext cx="205272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595600" y="1514880"/>
                <a:ext cx="3320640" cy="907920"/>
                <a:chOff x="2595600" y="1514880"/>
                <a:chExt cx="3320640" cy="9079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686320" y="1514880"/>
                  <a:ext cx="313884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stem 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595600" y="1514880"/>
                  <a:ext cx="33206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5916600" y="1514880"/>
                <a:ext cx="2684520" cy="907920"/>
                <a:chOff x="5916600" y="1514880"/>
                <a:chExt cx="2684520" cy="9079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007680" y="1514880"/>
                  <a:ext cx="250200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incip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916600" y="1514880"/>
                  <a:ext cx="268452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42520" y="2422800"/>
                <a:ext cx="2052720" cy="930600"/>
                <a:chOff x="542520" y="2422800"/>
                <a:chExt cx="2052720" cy="9306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33600" y="2422800"/>
                  <a:ext cx="1870200" cy="93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A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42520" y="2422800"/>
                  <a:ext cx="2052720" cy="93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595600" y="2422800"/>
                <a:ext cx="3320640" cy="930600"/>
                <a:chOff x="2595600" y="2422800"/>
                <a:chExt cx="3320640" cy="9306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686320" y="2422800"/>
                  <a:ext cx="3138840" cy="93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acuum propagation of laser from optical system to target boar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595600" y="2422800"/>
                  <a:ext cx="3320640" cy="93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916600" y="2422800"/>
                <a:ext cx="2684520" cy="930600"/>
                <a:chOff x="5916600" y="2422800"/>
                <a:chExt cx="2684520" cy="9306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007680" y="2422800"/>
                  <a:ext cx="2502000" cy="93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aveTrain user interface; building runset; data loading &amp; analys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916600" y="2422800"/>
                  <a:ext cx="2684520" cy="93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42520" y="3353400"/>
                <a:ext cx="2052720" cy="787320"/>
                <a:chOff x="542520" y="3353400"/>
                <a:chExt cx="2052720" cy="7873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33600" y="3353400"/>
                  <a:ext cx="18702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indAtmoPath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42520" y="3353400"/>
                  <a:ext cx="2052720" cy="78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595600" y="3353400"/>
                <a:ext cx="3320640" cy="787320"/>
                <a:chOff x="2595600" y="3353400"/>
                <a:chExt cx="3320640" cy="7873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686320" y="3353400"/>
                  <a:ext cx="313884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transverse velocity to atmospheric path, create subsyste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595600" y="3353400"/>
                  <a:ext cx="3320640" cy="78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916600" y="3353400"/>
                <a:ext cx="2684520" cy="787320"/>
                <a:chOff x="5916600" y="3353400"/>
                <a:chExt cx="2684520" cy="7873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007680" y="3353400"/>
                  <a:ext cx="25020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stem inputs &amp; outputs; creating/using WaveTrain subsyste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916600" y="3353400"/>
                  <a:ext cx="2684520" cy="78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542520" y="4141080"/>
                <a:ext cx="2052720" cy="930240"/>
                <a:chOff x="542520" y="4141080"/>
                <a:chExt cx="2052720" cy="9302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33600" y="4141080"/>
                  <a:ext cx="187020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B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42520" y="4141080"/>
                  <a:ext cx="2052720" cy="9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595600" y="4141080"/>
                <a:ext cx="3320640" cy="930240"/>
                <a:chOff x="2595600" y="4141080"/>
                <a:chExt cx="3320640" cy="9302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686320" y="4141080"/>
                  <a:ext cx="313884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atmospheric path for propagation; Add point source &amp; imaging came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595600" y="4141080"/>
                  <a:ext cx="3320640" cy="9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916600" y="4141080"/>
                <a:ext cx="2684520" cy="930240"/>
                <a:chOff x="5916600" y="4141080"/>
                <a:chExt cx="2684520" cy="930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007680" y="4141080"/>
                  <a:ext cx="250200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ndom turbulence realizations; Temporal turbulence effects; Beam projection vs. imag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916600" y="4141080"/>
                  <a:ext cx="2684520" cy="9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42520" y="5071320"/>
                <a:ext cx="2052720" cy="644400"/>
                <a:chOff x="542520" y="5071320"/>
                <a:chExt cx="2052720" cy="6444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33600" y="5071320"/>
                  <a:ext cx="1870200" cy="64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C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42520" y="5071320"/>
                  <a:ext cx="2052720" cy="64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595600" y="5071320"/>
                <a:ext cx="3320640" cy="644400"/>
                <a:chOff x="2595600" y="5071320"/>
                <a:chExt cx="3320640" cy="6444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686320" y="5071320"/>
                  <a:ext cx="3138840" cy="64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beam steering mirr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595600" y="5071320"/>
                  <a:ext cx="3320640" cy="64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916600" y="5071320"/>
                <a:ext cx="2684520" cy="644400"/>
                <a:chOff x="5916600" y="5071320"/>
                <a:chExt cx="2684520" cy="6444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007680" y="5071320"/>
                  <a:ext cx="2502000" cy="64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ordinate systems; pointing 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916600" y="5071320"/>
                  <a:ext cx="2684520" cy="64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42520" y="5716080"/>
                <a:ext cx="2052720" cy="644040"/>
                <a:chOff x="542520" y="5716080"/>
                <a:chExt cx="2052720" cy="6440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33600" y="5716080"/>
                  <a:ext cx="1870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D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2520" y="5716080"/>
                  <a:ext cx="205272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2595600" y="5716080"/>
                <a:ext cx="3320640" cy="644040"/>
                <a:chOff x="2595600" y="5716080"/>
                <a:chExt cx="3320640" cy="6440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686320" y="5716080"/>
                  <a:ext cx="3138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centroid process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95600" y="5716080"/>
                  <a:ext cx="33206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916600" y="5716080"/>
                <a:ext cx="2684520" cy="644040"/>
                <a:chOff x="5916600" y="5716080"/>
                <a:chExt cx="2684520" cy="6440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007680" y="5716080"/>
                  <a:ext cx="25020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mera processing in simulation enviro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916600" y="5716080"/>
                  <a:ext cx="268452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536400" y="1511280"/>
              <a:ext cx="8072280" cy="485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chedule (cont.)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87240" y="1227240"/>
            <a:ext cx="7707240" cy="5343480"/>
            <a:chOff x="687240" y="1227240"/>
            <a:chExt cx="7707240" cy="5343480"/>
          </a:xfrm>
        </p:grpSpPr>
        <p:grpSp>
          <p:nvGrpSpPr>
            <p:cNvPr id="196" name=""/>
            <p:cNvGrpSpPr/>
            <p:nvPr/>
          </p:nvGrpSpPr>
          <p:grpSpPr>
            <a:xfrm>
              <a:off x="693000" y="1230840"/>
              <a:ext cx="7694280" cy="5335560"/>
              <a:chOff x="693000" y="1230840"/>
              <a:chExt cx="7694280" cy="53355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693000" y="1230840"/>
                <a:ext cx="1959840" cy="943920"/>
                <a:chOff x="693000" y="1230840"/>
                <a:chExt cx="1959840" cy="9439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80120" y="1230840"/>
                  <a:ext cx="1785600" cy="9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stem Nam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93000" y="1230840"/>
                  <a:ext cx="1959840" cy="94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653200" y="1230840"/>
                <a:ext cx="3170520" cy="943920"/>
                <a:chOff x="2653200" y="1230840"/>
                <a:chExt cx="3170520" cy="9439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739960" y="1230840"/>
                  <a:ext cx="2997000" cy="9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stem 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653200" y="1230840"/>
                  <a:ext cx="3170520" cy="94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824080" y="1230840"/>
                <a:ext cx="2563200" cy="943920"/>
                <a:chOff x="5824080" y="1230840"/>
                <a:chExt cx="2563200" cy="9439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911200" y="1230840"/>
                  <a:ext cx="2388960" cy="9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incip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824080" y="1230840"/>
                  <a:ext cx="2563200" cy="94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693000" y="2174760"/>
                <a:ext cx="1959840" cy="669600"/>
                <a:chOff x="693000" y="2174760"/>
                <a:chExt cx="1959840" cy="669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80120" y="2174760"/>
                  <a:ext cx="1785600" cy="66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E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93000" y="2174760"/>
                  <a:ext cx="1959840" cy="66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653200" y="2174760"/>
                <a:ext cx="3170520" cy="669600"/>
                <a:chOff x="2653200" y="2174760"/>
                <a:chExt cx="3170520" cy="6696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739960" y="2174760"/>
                  <a:ext cx="2997000" cy="66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ose the track loo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653200" y="2174760"/>
                  <a:ext cx="3170520" cy="66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824080" y="2174760"/>
                <a:ext cx="2563200" cy="669600"/>
                <a:chOff x="5824080" y="2174760"/>
                <a:chExt cx="2563200" cy="6696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911200" y="2174760"/>
                  <a:ext cx="2388960" cy="66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osed-loop beam steering/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824080" y="2174760"/>
                  <a:ext cx="2563200" cy="66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93000" y="2844720"/>
                <a:ext cx="1959840" cy="967680"/>
                <a:chOff x="693000" y="2844720"/>
                <a:chExt cx="1959840" cy="9676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80120" y="2844720"/>
                  <a:ext cx="178560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F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93000" y="2844720"/>
                  <a:ext cx="195984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653200" y="2844720"/>
                <a:ext cx="3170520" cy="967680"/>
                <a:chOff x="2653200" y="2844720"/>
                <a:chExt cx="3170520" cy="9676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39960" y="2844720"/>
                  <a:ext cx="299700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incoherent extended target with target-end illumination; Add point source scoring sensor, target board process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653200" y="2844720"/>
                  <a:ext cx="317052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824080" y="2844720"/>
                <a:ext cx="2563200" cy="967680"/>
                <a:chOff x="5824080" y="2844720"/>
                <a:chExt cx="2563200" cy="9676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11200" y="2844720"/>
                  <a:ext cx="238896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eckle averaging methods; Reflectance maps; Tracking from extended sourc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824080" y="2844720"/>
                  <a:ext cx="256320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693000" y="3812400"/>
                <a:ext cx="1959840" cy="967320"/>
                <a:chOff x="693000" y="3812400"/>
                <a:chExt cx="1959840" cy="9673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80120" y="3812400"/>
                  <a:ext cx="1785600" cy="96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G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93000" y="3812400"/>
                  <a:ext cx="1959840" cy="96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653200" y="3812400"/>
                <a:ext cx="3170520" cy="967320"/>
                <a:chOff x="2653200" y="3812400"/>
                <a:chExt cx="3170520" cy="9673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739960" y="3812400"/>
                  <a:ext cx="2997000" cy="96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illuminator at system transmit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653200" y="3812400"/>
                  <a:ext cx="3170520" cy="96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824080" y="3812400"/>
                <a:ext cx="2563200" cy="967320"/>
                <a:chOff x="5824080" y="3812400"/>
                <a:chExt cx="2563200" cy="9673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911200" y="3812400"/>
                  <a:ext cx="2388960" cy="96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e illumination of target; incoherent target return; Beam reciprocity &amp; tilt indetermin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24080" y="3812400"/>
                  <a:ext cx="2563200" cy="96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93000" y="4780080"/>
                <a:ext cx="1959840" cy="967680"/>
                <a:chOff x="693000" y="4780080"/>
                <a:chExt cx="1959840" cy="9676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80120" y="4780080"/>
                  <a:ext cx="178560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H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3000" y="4780080"/>
                  <a:ext cx="195984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653200" y="4780080"/>
                <a:ext cx="3170520" cy="967680"/>
                <a:chOff x="2653200" y="4780080"/>
                <a:chExt cx="3170520" cy="9676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739960" y="4780080"/>
                  <a:ext cx="299700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turn to point source reference, add higher-order wave-front sens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653200" y="4780080"/>
                  <a:ext cx="317052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824080" y="4780080"/>
                <a:ext cx="2563200" cy="967680"/>
                <a:chOff x="5824080" y="4780080"/>
                <a:chExt cx="2563200" cy="9676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5911200" y="4780080"/>
                  <a:ext cx="238896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FS inputs &amp; reconstructor outputs; Hartmann sensor imagery, slop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824080" y="4780080"/>
                  <a:ext cx="256320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93000" y="5747760"/>
                <a:ext cx="1959840" cy="818640"/>
                <a:chOff x="693000" y="5747760"/>
                <a:chExt cx="1959840" cy="818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80120" y="5747760"/>
                  <a:ext cx="178560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I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93000" y="5747760"/>
                  <a:ext cx="195984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653200" y="5747760"/>
                <a:ext cx="3170520" cy="818640"/>
                <a:chOff x="2653200" y="5747760"/>
                <a:chExt cx="3170520" cy="818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739960" y="5747760"/>
                  <a:ext cx="299700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osed-loop higher-order 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653200" y="5747760"/>
                  <a:ext cx="317052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824080" y="5747760"/>
                <a:ext cx="2563200" cy="818640"/>
                <a:chOff x="5824080" y="5747760"/>
                <a:chExt cx="2563200" cy="818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911200" y="5747760"/>
                  <a:ext cx="238896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igher-order beam compensation—fixed and random aberra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824080" y="5747760"/>
                  <a:ext cx="256320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"/>
            <p:cNvSpPr/>
            <p:nvPr/>
          </p:nvSpPr>
          <p:spPr>
            <a:xfrm>
              <a:off x="687240" y="1227240"/>
              <a:ext cx="7707240" cy="5343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A “TutA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85760" y="1419120"/>
            <a:ext cx="706284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Subsystem “WindAtmoPath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36600" y="1424160"/>
            <a:ext cx="846936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B “TutB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14480" y="1311120"/>
            <a:ext cx="716256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C “TutC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23880" y="1305000"/>
            <a:ext cx="777240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D “TutD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76240" y="1216080"/>
            <a:ext cx="738828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E “TutE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125360" y="1216080"/>
            <a:ext cx="6980400" cy="54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F “TutF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11240" y="1139760"/>
            <a:ext cx="712008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G “TutG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01720" y="1138320"/>
            <a:ext cx="7516800" cy="55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Wave-Optics” Simulation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5320" y="1182240"/>
            <a:ext cx="8521560" cy="567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” can mean many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designed to look or act like some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processing using synthetic signals:  random processes—inject signal with correct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of a physical process—based on first-principles, physical laws, key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ve-Opt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ing propagation light with full wav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evolution given by Fresnel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:  Kolmogorov phase screens, “Markov” model—uncorrelated phase induced at discrete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Subsystem “WFSandRecon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447920" y="1441440"/>
            <a:ext cx="6176880" cy="42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H “TutH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003320" y="1149480"/>
            <a:ext cx="711828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I “TutI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82520" y="1141560"/>
            <a:ext cx="7032960" cy="55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Why Simulation?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130788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e of propagation through random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theory not (yet) fully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ytov approximation” only valid for weak scat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integral expressions complicated, do not provide general solution to wav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-optics simulation is a technique for solving wave equation even in strong turbu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system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y developed using simplifying assumptions—may not be valid for system being stu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fidelity:  Control systems, sensor effects, radi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architecture:  target illumination, local-loop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Simulation using Phase Screen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28920" y="1147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creen is produced independently using method previously descri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size must be carefully chosen to account for diffraction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ylor’s frozen flow can be used to incorporate time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91520" y="6184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for each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4480" y="1397160"/>
            <a:ext cx="8301960" cy="4674960"/>
            <a:chOff x="114480" y="1397160"/>
            <a:chExt cx="8301960" cy="4674960"/>
          </a:xfrm>
        </p:grpSpPr>
        <p:graphicFrame>
          <p:nvGraphicFramePr>
            <p:cNvPr id="97" name=""/>
            <p:cNvGraphicFramePr/>
            <p:nvPr/>
          </p:nvGraphicFramePr>
          <p:xfrm>
            <a:off x="2998440" y="1397160"/>
            <a:ext cx="1231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8440" y="1397160"/>
                      <a:ext cx="1231560" cy="6858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863280" y="4089240"/>
            <a:ext cx="152388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63280" y="4089240"/>
                      <a:ext cx="1523880" cy="6606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 flipH="1">
              <a:off x="1085040" y="5092560"/>
              <a:ext cx="4316040" cy="979560"/>
            </a:xfrm>
            <a:custGeom>
              <a:avLst/>
              <a:gdLst>
                <a:gd name="textAreaLeft" fmla="*/ 802080 w 4316040"/>
                <a:gd name="textAreaRight" fmla="*/ 3081600 w 4316040"/>
                <a:gd name="textAreaTop" fmla="*/ 131040 h 979560"/>
                <a:gd name="textAreaBottom" fmla="*/ 84852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35" hR="21600" stAng="10800000" swAng="-5400000"/>
                  <a:lnTo>
                    <a:pt x="11406" y="21600"/>
                  </a:lnTo>
                  <a:arcTo wR="8035" hR="21600" stAng="5400000" swAng="-2787234"/>
                  <a:lnTo>
                    <a:pt x="21140" y="7200"/>
                  </a:lnTo>
                  <a:lnTo>
                    <a:pt x="17755" y="0"/>
                  </a:lnTo>
                  <a:lnTo>
                    <a:pt x="13449" y="7200"/>
                  </a:lnTo>
                  <a:lnTo>
                    <a:pt x="15609" y="7200"/>
                  </a:lnTo>
                  <a:arcTo wR="8035" hR="21600" stAng="2612766" swAng="2513453"/>
                  <a:lnTo>
                    <a:pt x="9720" y="21119"/>
                  </a:lnTo>
                  <a:arcTo wR="8035" hR="21600" stAng="5673780" swAng="5126220"/>
                  <a:close/>
                </a:path>
                <a:path fill="darkenLess" w="21600" h="21600">
                  <a:moveTo>
                    <a:pt x="0" y="0"/>
                  </a:moveTo>
                  <a:arcTo wR="8035" hR="21600" stAng="10800000" swAng="-5400000"/>
                  <a:lnTo>
                    <a:pt x="11406" y="21600"/>
                  </a:lnTo>
                  <a:arcTo wR="8035" hR="21600" stAng="5400000" swAng="273780"/>
                  <a:lnTo>
                    <a:pt x="9720" y="21119"/>
                  </a:lnTo>
                  <a:arcTo wR="8035" hR="21600" stAng="5673780" swAng="512622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8240" y="1511280"/>
              <a:ext cx="763200" cy="1905120"/>
            </a:xfrm>
            <a:custGeom>
              <a:avLst/>
              <a:gdLst>
                <a:gd name="textAreaLeft" fmla="*/ 102240 w 763200"/>
                <a:gd name="textAreaRight" fmla="*/ 660960 w 763200"/>
                <a:gd name="textAreaTop" fmla="*/ 333360 h 1905120"/>
                <a:gd name="textAreaBottom" fmla="*/ 138132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480" y="2895480"/>
              <a:ext cx="715680" cy="1905120"/>
            </a:xfrm>
            <a:custGeom>
              <a:avLst/>
              <a:gdLst>
                <a:gd name="textAreaLeft" fmla="*/ 95760 w 715680"/>
                <a:gd name="textAreaRight" fmla="*/ 619920 w 715680"/>
                <a:gd name="textAreaTop" fmla="*/ 333360 h 1905120"/>
                <a:gd name="textAreaBottom" fmla="*/ 138132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20640" y="4229280"/>
              <a:ext cx="1066320" cy="380880"/>
            </a:xfrm>
            <a:prstGeom prst="rightArrow">
              <a:avLst>
                <a:gd name="adj1" fmla="val 50000"/>
                <a:gd name="adj2" fmla="val 6999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1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959520" y="4241160"/>
              <a:ext cx="1218600" cy="990360"/>
            </a:xfrm>
            <a:custGeom>
              <a:avLst/>
              <a:gdLst>
                <a:gd name="textAreaLeft" fmla="*/ 406080 w 1218600"/>
                <a:gd name="textAreaRight" fmla="*/ 1044000 w 1218600"/>
                <a:gd name="textAreaTop" fmla="*/ 570240 h 990360"/>
                <a:gd name="textAreaBottom" fmla="*/ 8485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c1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7273800" y="5295960"/>
            <a:ext cx="114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73800" y="5295960"/>
                      <a:ext cx="1142640" cy="6858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849240" y="2471760"/>
            <a:ext cx="3415680" cy="1117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49240" y="2471760"/>
                      <a:ext cx="3415680" cy="11174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3524040" y="3852720"/>
            <a:ext cx="3403080" cy="1117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24040" y="3852720"/>
                      <a:ext cx="3403080" cy="11178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What is WaveTrain?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1231560"/>
            <a:ext cx="8521560" cy="553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user platform for wave-optic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WOCs are single-user, “fixed” cod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toolset for system assembly—use GUI to construct C++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code permits modularity,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::WaveTrain as mfiles::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on existing WOCs—ACS, MOLLY, YAPs, tO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ed by AFRL/DE SBIR—MZA A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development supported by individua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ing commercial user base:  everything from eye surgery to HEL resonator design (AO fits in there somewher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28800" y="1138320"/>
            <a:ext cx="5334120" cy="42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29000" y="3962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477120" y="411480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17840" y="216000"/>
            <a:ext cx="4529160" cy="1739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pagation Model:  NOP-Salinas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5 m aperture telescope, 50 km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icron 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CLEAR-1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/s uniform 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Hz frame rate, 0.2 sec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94920" y="3657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447560" y="2590920"/>
            <a:ext cx="5331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5105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08760" y="35053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7560" y="2717640"/>
            <a:ext cx="164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mera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f poi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680" y="3511440"/>
            <a:ext cx="14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cident pup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59760" y="2916360"/>
            <a:ext cx="171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mage of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0.50 m di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ircle over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0400" y="55720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up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52280" y="-68580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ABL SPO IVV&amp;A Model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7360" y="1087560"/>
            <a:ext cx="5673960" cy="417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34120" y="1638360"/>
            <a:ext cx="3809880" cy="2933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3575160"/>
            <a:ext cx="4114800" cy="3282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19720" y="54100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WaveTrain ABL model will be the government code for assessing PDRR system tests &amp; for beam control technology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Systems &amp; Runset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3720" y="1371240"/>
            <a:ext cx="8964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veTrain System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what the sim do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components included a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flow of light and signals through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inputs, outputs, and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veTrain Runse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how the sim does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using WaveTrain system—many runsets, o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value of system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run variables—parameters may depend on ru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8:58:19Z</dcterms:created>
  <dc:creator>M. R. Whiteley</dc:creator>
  <dc:description/>
  <dc:language>en-US</dc:language>
  <cp:lastModifiedBy>whitelem</cp:lastModifiedBy>
  <dcterms:modified xsi:type="dcterms:W3CDTF">2001-09-11T03:21:54Z</dcterms:modified>
  <cp:revision>129</cp:revision>
  <dc:subject/>
  <dc:title>WaveTrain Tutorial Overiew</dc:title>
</cp:coreProperties>
</file>